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5"/>
          </p:nvPr>
        </p:nvSpPr>
        <p:spPr>
          <a:xfrm>
            <a:off x="3900240" y="0"/>
            <a:ext cx="29811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F5DD-CD90-479C-A6F8-2101517BDE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6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7"/>
          </p:nvPr>
        </p:nvSpPr>
        <p:spPr>
          <a:xfrm>
            <a:off x="3900240" y="8831160"/>
            <a:ext cx="29811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62B4-DFEF-426A-BF47-69F925A4F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3900600" y="0"/>
            <a:ext cx="2981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4C47-FBD4-425F-9580-310270B0A6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900600" y="8831160"/>
            <a:ext cx="2981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2481-840C-4D5D-9FA4-0346119E2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B102A-3214-433F-AC6F-0993B792A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54938-644D-400C-BBED-33FE23ED4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500E4-8248-4930-B5D4-53D718DD8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711D8-A3CA-431B-81B3-49C932020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A5B4-0827-4353-8B4B-0BF8E3DD1E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6EDF-AD48-4341-BE5C-57B57D4982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708A-C171-4718-AD59-2E06835F39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A9D-DB84-4C91-8438-7E47580390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EFBE-2BB1-405E-A6B6-8EE70A98C9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9F3-ECAC-4E22-B010-8D5DE106C1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9D33-2053-44A9-85B8-FE88CE1078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93323-120E-4E5F-8C27-9D319ADAFD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4C51-C8EB-4DDA-A598-AC2D886662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4628-EE45-4C67-AE48-ACE45EE629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EBF7-B3B9-4202-8D95-25BD48738D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59CC-D026-46DA-BF7D-18C244F14E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3739-1D70-43FE-888E-990FD6B13B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DF8F5-10CA-4723-B103-F4E565BEE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07ACF-E9C2-43B8-ADF4-A9AEBCF64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40552-EE02-48F9-B4E6-419C05F91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CADF7-E5D1-425B-A39B-B7DF5BD47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A206A-A96A-40C0-AC34-CBCA37213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2077C-3090-4B4F-85B4-E15E94C8E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16E1D-37FC-4377-B2AC-0821DAD8B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16908" r="0" b="0"/>
          <a:stretch/>
        </p:blipFill>
        <p:spPr>
          <a:xfrm>
            <a:off x="0" y="0"/>
            <a:ext cx="9140760" cy="609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6640" indent="-3376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6120" indent="-33768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95600" indent="-3376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95600" indent="-3376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95600" indent="-3376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3429000" y="6248520"/>
            <a:ext cx="5715000" cy="457200"/>
            <a:chOff x="3429000" y="6248520"/>
            <a:chExt cx="5715000" cy="457200"/>
          </a:xfrm>
        </p:grpSpPr>
        <p:sp>
          <p:nvSpPr>
            <p:cNvPr id="3" name="Line 5"/>
            <p:cNvSpPr/>
            <p:nvPr/>
          </p:nvSpPr>
          <p:spPr>
            <a:xfrm>
              <a:off x="4024440" y="6307200"/>
              <a:ext cx="5119560" cy="0"/>
            </a:xfrm>
            <a:prstGeom prst="line">
              <a:avLst/>
            </a:prstGeom>
            <a:ln w="76320">
              <a:solidFill>
                <a:srgbClr val="ca5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429000" y="6248520"/>
              <a:ext cx="5616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r" pos="38894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© 2009 South-Western, Cengage Lear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3657600" y="6248520"/>
              <a:ext cx="1828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r" pos="38894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400" spc="-1" strike="noStrike">
                  <a:solidFill>
                    <a:srgbClr val="3f7ebd"/>
                  </a:solidFill>
                  <a:latin typeface="Arial"/>
                </a:rPr>
                <a:t>MARKE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685800" y="61718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2800" spc="-1" strike="noStrike">
                <a:solidFill>
                  <a:srgbClr val="b9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0" y="6296040"/>
            <a:ext cx="1371600" cy="0"/>
          </a:xfrm>
          <a:prstGeom prst="line">
            <a:avLst/>
          </a:prstGeom>
          <a:ln w="76320">
            <a:solidFill>
              <a:srgbClr val="00a5e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0" y="1752480"/>
            <a:ext cx="4570560" cy="1098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solidFill>
            <a:srgbClr val="b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8457840" y="-3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C421-FD89-44AD-9359-CFF76245DE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2314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3429000" y="6248520"/>
            <a:ext cx="5715000" cy="457200"/>
            <a:chOff x="3429000" y="6248520"/>
            <a:chExt cx="5715000" cy="457200"/>
          </a:xfrm>
        </p:grpSpPr>
        <p:sp>
          <p:nvSpPr>
            <p:cNvPr id="52" name="Line 7"/>
            <p:cNvSpPr/>
            <p:nvPr/>
          </p:nvSpPr>
          <p:spPr>
            <a:xfrm>
              <a:off x="4024440" y="6307200"/>
              <a:ext cx="5119560" cy="0"/>
            </a:xfrm>
            <a:prstGeom prst="line">
              <a:avLst/>
            </a:prstGeom>
            <a:ln w="76320">
              <a:solidFill>
                <a:srgbClr val="ca5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3429000" y="6248520"/>
              <a:ext cx="5616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r" pos="38894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© 2009 South-Western, Cengage Lear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9"/>
            <p:cNvSpPr/>
            <p:nvPr/>
          </p:nvSpPr>
          <p:spPr>
            <a:xfrm>
              <a:off x="3657600" y="6248520"/>
              <a:ext cx="1828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r" pos="38894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400" spc="-1" strike="noStrike">
                  <a:solidFill>
                    <a:srgbClr val="3f7ebd"/>
                  </a:solidFill>
                  <a:latin typeface="Arial"/>
                </a:rPr>
                <a:t>MARKE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Line 10"/>
          <p:cNvSpPr/>
          <p:nvPr/>
        </p:nvSpPr>
        <p:spPr>
          <a:xfrm>
            <a:off x="0" y="6296040"/>
            <a:ext cx="1371600" cy="0"/>
          </a:xfrm>
          <a:prstGeom prst="line">
            <a:avLst/>
          </a:prstGeom>
          <a:ln w="76320">
            <a:solidFill>
              <a:srgbClr val="00a5e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0" y="2514600"/>
            <a:ext cx="1371600" cy="0"/>
          </a:xfrm>
          <a:prstGeom prst="line">
            <a:avLst/>
          </a:prstGeom>
          <a:ln w="76320">
            <a:solidFill>
              <a:srgbClr val="00a5e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solidFill>
            <a:srgbClr val="b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6640" indent="-3376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6120" indent="-33768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95600" indent="-3376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95600" indent="-3376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95600" indent="-3376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3"/>
          </p:nvPr>
        </p:nvSpPr>
        <p:spPr>
          <a:xfrm>
            <a:off x="8457840" y="-3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5F56-2EED-493B-A591-FDECB9E99C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4"/>
          </p:nvPr>
        </p:nvSpPr>
        <p:spPr>
          <a:xfrm>
            <a:off x="685800" y="61718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2800" spc="-1" strike="noStrike">
                <a:solidFill>
                  <a:srgbClr val="b9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3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4C1F-59FE-4A72-8ADC-96FF6D505A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COMPETITION IS </a:t>
            </a:r>
            <a:br>
              <a:rPr sz="4000"/>
            </a:b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EVERYWHERE</a:t>
            </a:r>
            <a:endParaRPr b="1" lang="en-US" sz="40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95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7-1</a:t>
            </a: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ing on Market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5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7-2</a:t>
            </a: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oning for Competitive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5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7-3</a:t>
            </a: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ng for Market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5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7-4</a:t>
            </a:r>
            <a:r>
              <a:rPr b="1" lang="en-US" sz="3200" spc="-1" strike="noStrike">
                <a:solidFill>
                  <a:srgbClr val="ca53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about the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152280" y="15228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APTER</a:t>
            </a:r>
            <a:br>
              <a:rPr sz="32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72F1-EB6B-4CFE-A1AE-A1525EF0C7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Views on Competition 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rket Segment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ose businesses that have products appealing to their selected market segm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0"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ss Market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ry business competing in the market is a competi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5912-2BDB-41A8-8FB5-390194E72E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gmentation Categori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eograph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based on where they l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329400">
              <a:spcBef>
                <a:spcPts val="4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y (Lg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ip Code (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329400">
              <a:spcBef>
                <a:spcPts val="4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idea that people who live in the same area have similar needs and want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emograph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age, gender, race, income, educational leve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2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B5A5-92C4-46FC-992C-214F9A4D87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24"/>
          <p:cNvGrpSpPr/>
          <p:nvPr/>
        </p:nvGrpSpPr>
        <p:grpSpPr>
          <a:xfrm>
            <a:off x="1019160" y="1865160"/>
            <a:ext cx="7086600" cy="4329360"/>
            <a:chOff x="1019160" y="1865160"/>
            <a:chExt cx="7086600" cy="4329360"/>
          </a:xfrm>
        </p:grpSpPr>
        <p:pic>
          <p:nvPicPr>
            <p:cNvPr id="156" name="Picture 16" descr=""/>
            <p:cNvPicPr/>
            <p:nvPr/>
          </p:nvPicPr>
          <p:blipFill>
            <a:blip r:embed="rId1"/>
            <a:srcRect l="0" t="0" r="3704" b="1424"/>
            <a:stretch/>
          </p:blipFill>
          <p:spPr>
            <a:xfrm>
              <a:off x="1019160" y="1865160"/>
              <a:ext cx="7086600" cy="43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22"/>
            <p:cNvSpPr/>
            <p:nvPr/>
          </p:nvSpPr>
          <p:spPr>
            <a:xfrm>
              <a:off x="1938240" y="2909880"/>
              <a:ext cx="6019920" cy="190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Demographic Characteristics of Education and Income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pic>
        <p:nvPicPr>
          <p:cNvPr id="159" name="Picture 17" descr=""/>
          <p:cNvPicPr/>
          <p:nvPr/>
        </p:nvPicPr>
        <p:blipFill>
          <a:blip r:embed="rId2"/>
          <a:srcRect l="77627" t="0" r="3688" b="1375"/>
          <a:stretch/>
        </p:blipFill>
        <p:spPr>
          <a:xfrm>
            <a:off x="6732720" y="1863720"/>
            <a:ext cx="1374480" cy="433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8" descr=""/>
          <p:cNvPicPr/>
          <p:nvPr/>
        </p:nvPicPr>
        <p:blipFill>
          <a:blip r:embed="rId3"/>
          <a:srcRect l="61345" t="0" r="22326" b="1375"/>
          <a:stretch/>
        </p:blipFill>
        <p:spPr>
          <a:xfrm>
            <a:off x="5533920" y="1863720"/>
            <a:ext cx="1201680" cy="433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9" descr=""/>
          <p:cNvPicPr/>
          <p:nvPr/>
        </p:nvPicPr>
        <p:blipFill>
          <a:blip r:embed="rId4"/>
          <a:srcRect l="44960" t="0" r="38711" b="1375"/>
          <a:stretch/>
        </p:blipFill>
        <p:spPr>
          <a:xfrm>
            <a:off x="4327560" y="1863720"/>
            <a:ext cx="1201680" cy="433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0" descr=""/>
          <p:cNvPicPr/>
          <p:nvPr/>
        </p:nvPicPr>
        <p:blipFill>
          <a:blip r:embed="rId5"/>
          <a:srcRect l="28880" t="0" r="54894" b="1375"/>
          <a:stretch/>
        </p:blipFill>
        <p:spPr>
          <a:xfrm>
            <a:off x="3144960" y="1863720"/>
            <a:ext cx="1193760" cy="4330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1" descr=""/>
          <p:cNvPicPr/>
          <p:nvPr/>
        </p:nvPicPr>
        <p:blipFill>
          <a:blip r:embed="rId6"/>
          <a:srcRect l="12598" t="0" r="70970" b="1375"/>
          <a:stretch/>
        </p:blipFill>
        <p:spPr>
          <a:xfrm>
            <a:off x="1946160" y="1863720"/>
            <a:ext cx="1209960" cy="433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8948-7B7D-4A4F-B7DE-B030F65F2C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gmentation Categori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sychographic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interests/valu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1572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style cho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1572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Stores, Coffee Shops, etc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88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000000"/>
                </a:solidFill>
                <a:uFillTx/>
                <a:latin typeface="Arial"/>
              </a:rPr>
              <a:t>Product Usage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requency/quantity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1572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one Pl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15720">
              <a:spcBef>
                <a:spcPts val="4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tel Stay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usiness/Final Consum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8BC9-BD37-4459-9674-80EC2CFBDC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gmentation Categori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enefit Expect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efits expected from use of a particular product or servic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341280">
              <a:spcBef>
                <a:spcPts val="4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efit Segm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41280">
              <a:spcBef>
                <a:spcPts val="34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s consumers into groups depending on benefits they expect or require from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ED7F-52C9-4158-AA98-A737CC8DD7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Identifying and Analyzing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egment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et Opportun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is an identified market with excellent potential based on careful resear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356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Possible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ing Market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5062-EF47-4E73-992D-CF7FC61473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Identifying Possible Segment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market or product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basis for segmenting the mark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her information for ana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segments that exist in the mark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arket information to choose the markets that present greatest &amp; least amt of potent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DA21-BEEA-49A5-A982-48F54A97D5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Determining Market Potential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otential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in the product or service and other mix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available to make the purc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communicate with and distribute product to consu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6330-3E2E-4D50-A978-2C48243365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Potential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et Potenti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is the total revenue that can be obtained from the market seg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003A-3B5E-4803-A963-E2FDCA84D9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hare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et Sh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is the portion of the total market potential that each company expects to get in relation to its competito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1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2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BFC6-5682-422B-80A4-E35B9058B2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0" t="0" r="2457" b="0"/>
          <a:stretch/>
        </p:blipFill>
        <p:spPr>
          <a:xfrm>
            <a:off x="5029200" y="609480"/>
            <a:ext cx="3632040" cy="720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 rot="16200000">
            <a:off x="-897480" y="4735440"/>
            <a:ext cx="29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rtesy of PJ Madison’s. Used with permiss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410080" y="1371600"/>
            <a:ext cx="35816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a5302"/>
                </a:solidFill>
                <a:latin typeface="Arial"/>
              </a:rPr>
              <a:t>Focus Ques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ways is PJ Madison’s trying to suggest its ice cream is different and better than other brand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ypes of consumers do you believe will be attracted to the advertisem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your view, is the ad effective at encouraging customers to try PJ Madison’s ice cream? Why or why n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2"/>
          <a:srcRect l="0" t="1371" r="1815" b="4107"/>
          <a:stretch/>
        </p:blipFill>
        <p:spPr>
          <a:xfrm>
            <a:off x="0" y="11160"/>
            <a:ext cx="5257800" cy="6846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919C-F433-44C6-A2B2-28D595B301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POSITIONING FOR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MPETITIVE ADVANTAGE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cc00"/>
                </a:solidFill>
                <a:latin typeface="Arial"/>
              </a:rPr>
              <a:t>GOAL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plain the various bases for positioning a product to distinguish it from the competition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scribe the three common positioning strategi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152280" y="1522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18DF-93F9-46E9-83C3-A17569469D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Basis for Positioning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et Pos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refers to the unique image of a product or service in a consumer’s mind relative to similar competitive offering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0CD5-6E44-496D-95E8-B111B01476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Basis for Positioning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ttribu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highlight product fea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thpas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tening featur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ice &amp; Qualit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price = quality (Mercedes Ben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price = value (Wal-M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BCC9-B58D-44B9-84ED-1F8462B350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Basis for Positioning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Use or Applic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Uniquen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 &amp; Hammer – Baking or Deodorizing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duct Us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Type of Person(ality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 Apparel – Professional 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si Generation – Young Activ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ney – Family Oriented Activ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4032-504C-43F4-BCC3-582C3D7836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Basis for Positioning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duct Classific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categ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lnSpc>
                <a:spcPct val="90000"/>
              </a:lnSpc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trak - service/schedule of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lnSpc>
                <a:spcPct val="90000"/>
              </a:lnSpc>
              <a:spcBef>
                <a:spcPts val="85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k - ‘the other white meat’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poultry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mpetit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compared to compet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lnSpc>
                <a:spcPct val="90000"/>
              </a:lnSpc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s - ranked next to th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lnSpc>
                <a:spcPct val="90000"/>
              </a:lnSpc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Up - the ‘uncola’ comparing to co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47A2-5632-4EC3-AF65-83040DD7B2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83"/>
          <p:cNvSpPr/>
          <p:nvPr/>
        </p:nvSpPr>
        <p:spPr>
          <a:xfrm>
            <a:off x="685800" y="2286000"/>
            <a:ext cx="8001000" cy="609480"/>
          </a:xfrm>
          <a:prstGeom prst="rect">
            <a:avLst/>
          </a:prstGeom>
          <a:solidFill>
            <a:srgbClr val="ffe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7"/>
          <p:cNvSpPr/>
          <p:nvPr/>
        </p:nvSpPr>
        <p:spPr>
          <a:xfrm>
            <a:off x="685800" y="3565440"/>
            <a:ext cx="8001000" cy="609840"/>
          </a:xfrm>
          <a:prstGeom prst="rect">
            <a:avLst/>
          </a:prstGeom>
          <a:solidFill>
            <a:srgbClr val="ffe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8"/>
          <p:cNvSpPr/>
          <p:nvPr/>
        </p:nvSpPr>
        <p:spPr>
          <a:xfrm>
            <a:off x="685800" y="4844880"/>
            <a:ext cx="8001000" cy="609840"/>
          </a:xfrm>
          <a:prstGeom prst="rect">
            <a:avLst/>
          </a:prstGeom>
          <a:solidFill>
            <a:srgbClr val="ffe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9"/>
          <p:cNvSpPr/>
          <p:nvPr/>
        </p:nvSpPr>
        <p:spPr>
          <a:xfrm>
            <a:off x="685800" y="2925720"/>
            <a:ext cx="8001000" cy="609480"/>
          </a:xfrm>
          <a:prstGeom prst="rect">
            <a:avLst/>
          </a:prstGeom>
          <a:solidFill>
            <a:srgbClr val="d0e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00"/>
          <p:cNvSpPr/>
          <p:nvPr/>
        </p:nvSpPr>
        <p:spPr>
          <a:xfrm>
            <a:off x="685800" y="4205160"/>
            <a:ext cx="8001000" cy="609840"/>
          </a:xfrm>
          <a:prstGeom prst="rect">
            <a:avLst/>
          </a:prstGeom>
          <a:solidFill>
            <a:srgbClr val="d0e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01"/>
          <p:cNvSpPr/>
          <p:nvPr/>
        </p:nvSpPr>
        <p:spPr>
          <a:xfrm>
            <a:off x="685800" y="5486400"/>
            <a:ext cx="8001000" cy="609480"/>
          </a:xfrm>
          <a:prstGeom prst="rect">
            <a:avLst/>
          </a:prstGeom>
          <a:solidFill>
            <a:srgbClr val="d0e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85800" y="1905120"/>
          <a:ext cx="8001000" cy="4206600"/>
        </p:xfrm>
        <a:graphic>
          <a:graphicData uri="http://schemas.openxmlformats.org/drawingml/2006/table">
            <a:tbl>
              <a:tblPr/>
              <a:tblGrid>
                <a:gridCol w="2057400"/>
                <a:gridCol w="2971800"/>
                <a:gridCol w="2971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7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dry Product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7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dry Product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7ebd"/>
                    </a:solidFill>
                  </a:tcPr>
                </a:tc>
              </a:tr>
              <a:tr h="642600">
                <a:tc>
                  <a:txBody>
                    <a:bodyPr lIns="137160" rIns="1371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37160" marR="137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ns quickly and eas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ves fresh sc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137160" rIns="1371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and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37160" marR="137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price, good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 price for highest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137160" rIns="1371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or 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37160" marR="137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as pre-wash on tough st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for hand-washing delic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137160" rIns="1371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U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37160" marR="137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maker’s reliable fri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generation’s disco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137160" rIns="1371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Class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37160" marR="137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y Olympic athl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y professional laund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137160" rIns="1371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37160" marR="137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s out dirt Product B ca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tler on clothing than Product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28600" marR="228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Pos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4322-F97B-4068-BCBA-188DEA1F04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lecting a Positioning Strategy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tioning strategies outlin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a company is going to present its product to the consum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it will compete in the marketplace with other businesses offering similar produ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D41E-B889-4B37-B55E-59B68F5FB8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lecting a Positioning Strategy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sumer Percep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are the images consumers have of competing goods and services in the marketpla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eal to desires and perceptions of their target mark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55B7-0465-4A23-A8E5-1B6B654AE8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lecting a Positioning Strategy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mpet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perception they have of company and produ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ally - they perceive the product as superior to competitors’ bas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the marketed attribu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a Wars – Promotional batt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7D34-F86F-4717-9756-B180C1BBF4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Selecting a Positioning Strategy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usiness Environ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watch changes in B.E. that may affect the position of their produ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roducts Entering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Consumer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spcBef>
                <a:spcPts val="799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Publ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932D-4F17-4C69-B2D4-36CD901FE8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FOCUSING ON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EGMENT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cc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markets can be segmented by geographic location, demographic characteristics, psychographics, product usage, and benefits deriv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o evaluate market potential and calculate market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52280" y="1522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C770-90B5-40D9-8B75-0AF5EF58B0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MPETING FOR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EGMENT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cc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ain direct vs. indirect competition and price vs. non-price competition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cribe the benefits of competition to consum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152280" y="1522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B121-CFE8-42E6-8B96-0FDF4BEE50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on for Positioning Decision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usinesses must be able t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4128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 and reach a market segment that has a need for their produ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4128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tion itself effectively against its competitor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D506-48CF-4B97-874F-8D65E5D26D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on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Direct vs. Indirect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rect Compet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competition in a market with businesses that offer the same type of produ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32076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tels competing for traveling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32076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hletic Apparel (Nike, Adidas, Reeb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32076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Food Chains (McDonalds vs. B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32076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e Theatres (Warrington vs. Regal Bar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32076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e Rentals  (Red Box vs. On-Deman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2930-559B-4034-AB7D-C635E605FD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on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Direct vs. Indirect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direct Compet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eting with companies offering products that are not in the same product category but that satisfy similar customer nee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678600" indent="-33300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hletics vs. Professional Wear (Nike vs. Ga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78600" indent="-33300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Food Chains vs. Grocery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78600" indent="-333000">
              <a:spcBef>
                <a:spcPts val="700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e Theaters vs. Video Rentals vs. Ice Skating vs. all other forms of entertainment cho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7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20E8-C68D-4EBB-96AA-58F44F8EFC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on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Price vs. Non-Price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ice Compet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Rivalry among businesses based on price / valu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cery 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taurant Spec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irf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4465-8FEF-4A72-A011-F1A26A73F7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on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Price vs. Non-Price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on-Price Competi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when businesses emphasize factors of  marketing mix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ther than pri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33984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33984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and n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33984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33984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89CF-A2EC-46D1-A409-DD4878F944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f7ebd"/>
                </a:solidFill>
                <a:latin typeface="Arial"/>
              </a:rPr>
              <a:t>Reasons for </a:t>
            </a:r>
            <a:br>
              <a:rPr sz="3800"/>
            </a:br>
            <a:r>
              <a:rPr b="1" lang="en-US" sz="3800" spc="-1" strike="noStrike">
                <a:solidFill>
                  <a:srgbClr val="3f7ebd"/>
                </a:solidFill>
                <a:latin typeface="Arial"/>
              </a:rPr>
              <a:t>Non-Price Competition</a:t>
            </a:r>
            <a:endParaRPr b="1" lang="en-US" sz="38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y not have control of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2256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urance Companies (Gov. Regulated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2256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cus: Easy Application, Personalized Services, Prompt Claims Service, etc.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e might be higher than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2256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 Business vs. Large (Wal-Mar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22560">
              <a:spcBef>
                <a:spcPts val="7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cus: Individualized attention, delivery, set-up, after sale service, business hi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589D-9720-4409-9678-48A0BA9BF3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f7ebd"/>
                </a:solidFill>
                <a:uFillTx/>
                <a:latin typeface="Arial"/>
              </a:rPr>
              <a:t>Consumer</a:t>
            </a: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 Benefits of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24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umer receives the best price for products.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(Most 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Cheapest Price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tion encourage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mproveme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products with the addition of unique features and benefit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Stand Out, Be Distinc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1832-CF7E-4D11-AEAA-C849F9F885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Benefits of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sinesses are always looking for new and improved products to match their competi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tion offers consumers the benefit of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ide varie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products from which to choo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2B73-5A04-4375-9156-0B2AC6F654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LEARNING ABOUT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HE COMPETI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cc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uss the types of information businesses need to know about their competito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be the kinds of activities businesses engage in to gain marketing intellige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152280" y="1522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ca5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-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B670-E037-404B-A26C-AF8981BA04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egment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sinesses must direct their efforts and resources toward marketing strategies which compete f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les Dolla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stom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Sha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53DA-38A7-4C9D-B807-6D1A28B5B7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cing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competitors planning s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they raising/lowering pri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they adding new fea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new op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3362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new servi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172B-7B82-41FC-B859-41B692D675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tribution Deci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ailability/Location conveni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there large quant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there large sele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10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ailable online &amp; in sto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5A92-E764-4725-8B8F-7B258B2E5E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t/Service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32940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in products being offer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32940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llenge to anticipate new produ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32940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ually results in at least a temporary shift in purchases during the introduction sta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BD0B-334B-4A77-A23A-88D1CA4D5D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motional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d quickly if need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bs consumer atten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ll-timed can have direct impact on business sales &amp; competito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4F68-8560-48A1-81D5-75848BDA7C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Types of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etitor’s Market 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the competi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 their strengths / weaknes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 able to anticipate their a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pare for their a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43AF-F410-4BB5-9C63-4940616494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llecting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rketing Intellig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process of gaining competitive marketing informa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904E-EC2E-40CF-A5CF-F81E9731FF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llecting Competitive Information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Information Sourc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lespeople &amp; other employ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tors’ product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icles, research reports, and public inform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fessional &amp; trade pub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DF3E-9ECB-415D-93B6-DECF01B400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llecting Competitive Information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Information Sourc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stomers &amp; customer rec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rade sh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5720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hibitions where companies associated with an industry gather to showcase their produ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a5302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E5C6-B81B-425B-832F-2534DECBA9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llecting Competitive Information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Information Sourc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g companies - staff responsible for working with marketing intellige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lnSpc>
                <a:spcPct val="80000"/>
              </a:lnSpc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 strengths/weaknesses of key competito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lnSpc>
                <a:spcPct val="80000"/>
              </a:lnSpc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ess their current marketing strateg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533520">
              <a:lnSpc>
                <a:spcPct val="80000"/>
              </a:lnSpc>
              <a:spcBef>
                <a:spcPts val="90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dict their future a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B48D-FB04-4C00-8D4F-8A4194D8FE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f7ebd"/>
                </a:solidFill>
                <a:uFillTx/>
                <a:latin typeface="Arial"/>
              </a:rPr>
              <a:t>Un-Ethical Behavior</a:t>
            </a: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 Behind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llecting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taining information under false pretenses or misleading inf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ssing restricted da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mpster diving – illeg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bing employees – illeg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70D4-8DE7-4D73-973E-7C89870414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egment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et Segment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a group of individuals or organizations within a larger market that share one or more important characteristic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0DCA-7188-4174-A148-FF21EE07F5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f7ebd"/>
                </a:solidFill>
                <a:uFillTx/>
                <a:latin typeface="Arial"/>
              </a:rPr>
              <a:t>Protecting Yourself</a:t>
            </a: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Collecting Competitive Inform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nies should clearly communicate their expectations about confidentiality of information to employees, suppliers and customer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vide guidelines in ‘Code of Ethics’ about sharing and using inform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0634-5EAA-4CA8-AC19-2CC4CA113C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Market Segment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et Segmentation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process of dividing a large group of consumers into subgroups based on specific characteristics and common nee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F4B6-5FB1-488F-B3E3-3D157508EE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Benefits of Segmentation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businesses are unwilling to spend extra time and $$ on market segment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they use Mass Marketing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ss Marke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directs company’s marketing mix at a large heterogeneous group of consumer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BBB2-EF16-44FB-9151-164FE82865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Advantages vs. Disadvantag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rket Segment Advant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likely to meet the needs of target mark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rket Segment Disadvant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s more time to gather and analyze the information to seg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685800" y="61722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cc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8458200" y="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DD7E-76C2-4E9C-8C69-A55B2E57FA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7ebd"/>
                </a:solidFill>
                <a:latin typeface="Arial"/>
              </a:rPr>
              <a:t>Advantages vs. Disadvantages</a:t>
            </a:r>
            <a:endParaRPr b="1" lang="en-US" sz="3600" spc="-1" strike="noStrike">
              <a:solidFill>
                <a:srgbClr val="3f7eb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ss Marketing Adavant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er potential sales volume and efficiencies of scale in larger marke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a53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ss Marketing Disadvant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451"/>
              </a:spcBef>
              <a:buClr>
                <a:srgbClr val="00a5e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ccess more difficult because you are trying to appeal to diverse gro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01:10:53Z</dcterms:created>
  <dc:creator/>
  <dc:description/>
  <dc:language>en-US</dc:language>
  <cp:lastModifiedBy>tmsadmin</cp:lastModifiedBy>
  <dcterms:modified xsi:type="dcterms:W3CDTF">2013-12-03T17:49:44Z</dcterms:modified>
  <cp:revision>56</cp:revision>
  <dc:subject/>
  <dc:title>COMPETITION IS  EVERYWHERE</dc:title>
</cp:coreProperties>
</file>